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6F69-972B-4BB8-B126-421BDC8CB8B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E600-8FFE-4E8D-8C05-3DB008F8125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C0D1-7DCA-4D5C-9299-38BC499EB6C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0ED6-9D3A-44B0-90EF-C271D9333D1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7018-EC9D-4B58-9A96-1FFB057302D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8191-90A3-46F8-9A87-5B123CA0EF2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43DF-9C61-4691-8D08-24E2C415791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644D-2679-4672-BD74-64F1295329F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069B-14B2-45D9-814E-254108F1DE5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6875-7F0C-4F8D-8447-AFB3D4C405A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5C3D-F55B-4EF5-A44B-C6AAC759CEC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C34E-C998-45B0-84AA-CC163879AFF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6AAA-9D81-438F-9686-0E24A219D12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544E-6619-4A7F-AABB-012BBCF38CD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58AF-9CDF-4341-8E85-85366D9B6A9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69A8-09CB-424A-9232-6C81DE58269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8F67-7A9B-4B0E-8AB9-5734F173F3E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EAC2-A4A5-49CB-AA70-61E34F70174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30E3-2DF2-476C-9954-62557390FBDC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2BC4-1741-48FC-BF9D-A475367EE42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24B7-7D33-4335-BF38-7868357A91A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CC6F-4F09-481D-AAA0-A0B94F95E2F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B966-D0CB-404A-8421-AF0CC3C87FA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1708-AB85-42A4-8B63-11E8594DDA7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89A0-55C3-4B11-8561-D3ED2E161B0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D059-96FB-44D7-80A8-8EE15B968D1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358C-FFBA-4C15-8595-2BF2846F4A0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EB43-322A-4A50-9BE6-87E4F4ECC23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DDE4-6F6B-4B3A-92D8-D5C5D039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3818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BEBF-2609-4AE7-8FF3-CDC77A24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3144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858-766A-4D3F-839A-DBF417F1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684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928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684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928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F5A1-62BB-4302-8091-8826D060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7AE0-E808-40DF-BB0F-793E314B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F87B-C4CC-4000-A87B-ABD593DE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C1A0-4AA1-4338-B631-6BF85D01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E466-9345-4B80-9955-459BBEB4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13F3-687D-4FEB-B6A3-D51EA35C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58920" y="259920"/>
            <a:ext cx="73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DFA4-CD79-4F08-AFE6-CCAF7C7F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1D38-566D-4BBD-9FFC-D7FD7E3E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0B3B-32F8-4F88-A0D1-E428EEAA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3144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D082-9425-43F8-9264-E8EEAB5F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E983-AEFD-4C0C-9692-239FFB73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818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CCEE-0ACD-4E99-8FD9-AB9CCC75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3144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C148-EE70-482A-8AB9-111C1736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684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7928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684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7928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6009-EC16-4C91-8F36-092B41ED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B9CB-6AD1-4501-8EB7-F09AB707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58920" y="259920"/>
            <a:ext cx="73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13144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18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13144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9684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928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9684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928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BBF5-867D-42D1-B8B4-B1ED5C18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E382-E742-47C2-A01F-B8EA69BF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58920" y="259920"/>
            <a:ext cx="73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B7DD-8E7D-49B5-A65C-1F2C97F5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5686-2EA3-4CEB-94AA-D664249C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3144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0287-9A78-43B2-8D8F-0877E299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53FD-B73D-4961-BB73-84251A3F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E654-55A6-4326-8C6B-B3C0251541B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9"/>
          <p:cNvSpPr/>
          <p:nvPr/>
        </p:nvSpPr>
        <p:spPr>
          <a:xfrm>
            <a:off x="4762440" y="2863800"/>
            <a:ext cx="268596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" name="Picture 10" descr="logo-insp"/>
          <p:cNvPicPr/>
          <p:nvPr/>
        </p:nvPicPr>
        <p:blipFill>
          <a:blip r:embed="rId2"/>
          <a:stretch/>
        </p:blipFill>
        <p:spPr>
          <a:xfrm>
            <a:off x="108000" y="187200"/>
            <a:ext cx="1457280" cy="5050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3"/>
          <p:cNvSpPr/>
          <p:nvPr/>
        </p:nvSpPr>
        <p:spPr>
          <a:xfrm>
            <a:off x="0" y="765000"/>
            <a:ext cx="9144000" cy="60930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9"/>
          <p:cNvSpPr/>
          <p:nvPr/>
        </p:nvSpPr>
        <p:spPr>
          <a:xfrm>
            <a:off x="4762440" y="2863800"/>
            <a:ext cx="268596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Picture 10" descr="logo-insp"/>
          <p:cNvPicPr/>
          <p:nvPr/>
        </p:nvPicPr>
        <p:blipFill>
          <a:blip r:embed="rId2"/>
          <a:stretch/>
        </p:blipFill>
        <p:spPr>
          <a:xfrm>
            <a:off x="108000" y="187200"/>
            <a:ext cx="1457280" cy="5050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765000"/>
            <a:ext cx="9144000" cy="60930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0658-E047-4DD4-AEEC-B9406CA60DE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9"/>
          <p:cNvSpPr/>
          <p:nvPr/>
        </p:nvSpPr>
        <p:spPr>
          <a:xfrm>
            <a:off x="4762440" y="2863800"/>
            <a:ext cx="268596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Picture 10" descr="logo-insp"/>
          <p:cNvPicPr/>
          <p:nvPr/>
        </p:nvPicPr>
        <p:blipFill>
          <a:blip r:embed="rId2"/>
          <a:stretch/>
        </p:blipFill>
        <p:spPr>
          <a:xfrm>
            <a:off x="108000" y="187200"/>
            <a:ext cx="1457280" cy="505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0" y="765000"/>
            <a:ext cx="9144000" cy="60930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7772400" cy="2100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cc3300"/>
                </a:solidFill>
                <a:latin typeface="Arial"/>
              </a:rPr>
              <a:t>Análisis de los grupos de interés</a:t>
            </a:r>
            <a:br>
              <a:rPr sz="44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640" y="-10044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3300"/>
                </a:solidFill>
                <a:latin typeface="Arial"/>
              </a:rPr>
              <a:t>Modelos de dir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063800"/>
            <a:ext cx="82296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3300"/>
                </a:solidFill>
                <a:latin typeface="Arial"/>
              </a:rPr>
              <a:t>Modelo tradicional o de los accioni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"/>
              </a:rPr>
              <a:t>Se centra en la satisfacción de los intereses de los accionistas a través de la creación de valor, que se verá reflejada en los mercados financie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3300"/>
                </a:solidFill>
                <a:latin typeface="Arial"/>
              </a:rPr>
              <a:t>Modelo de control social o de los grupos de inte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"/>
              </a:rPr>
              <a:t>Su objetivo comprende el logro y la obtención de un equilibrio entre los intereses, a veces contradictorios, de todos los colectivos que tienen un interés legítimo en la organ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642160" cy="5545080"/>
          </a:xfrm>
          <a:prstGeom prst="rect">
            <a:avLst/>
          </a:prstGeom>
          <a:ln w="0">
            <a:noFill/>
          </a:ln>
        </p:spPr>
      </p:pic>
      <p:sp>
        <p:nvSpPr>
          <p:cNvPr id="160" name="3 Rectángulo"/>
          <p:cNvSpPr/>
          <p:nvPr/>
        </p:nvSpPr>
        <p:spPr>
          <a:xfrm>
            <a:off x="1978560" y="214200"/>
            <a:ext cx="70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3300"/>
                </a:solidFill>
                <a:latin typeface="Tahoma"/>
              </a:rPr>
              <a:t>Modelo tradicional o de los accionis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162" name="3 Rectángulo"/>
          <p:cNvSpPr/>
          <p:nvPr/>
        </p:nvSpPr>
        <p:spPr>
          <a:xfrm>
            <a:off x="1714680" y="-7128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3300"/>
                </a:solidFill>
                <a:latin typeface="Tahoma"/>
              </a:rPr>
              <a:t>Modelo de control social o de los grupos de inter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99"/>
                </a:solidFill>
                <a:latin typeface="Arial"/>
              </a:rPr>
              <a:t>Individuo o un grupo de individuos que pueden afectar o verse afectados en el logro de los objetivos empresar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3300"/>
                </a:solidFill>
                <a:latin typeface="Arial"/>
              </a:rPr>
              <a:t>(Freeman, 198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Persona,  grupo, organización, institución o el entorno que pueden afectar o verse afectados en el logro de los objetivos empresar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(Freeman, 198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2627280" y="189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3300"/>
                </a:solidFill>
                <a:latin typeface="Tahoma"/>
              </a:rPr>
              <a:t>Grupos de interé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857160" y="785880"/>
            <a:ext cx="75726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648036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920" y="-21456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El po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7120" y="121428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0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rado en que los individuos o grupos son capaces de persuadir, inducir o coaccionar a otros para seguir ciertas líneas de conducta, y de acuerdo con sus expectativas influir en las estrategias de la organ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10800">
              <a:lnSpc>
                <a:spcPct val="15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1080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(Johnson y Scholes, 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00000"/>
                </a:solidFill>
                <a:latin typeface="Arial"/>
              </a:rPr>
              <a:t>Fuentes de poder de los grupos de inter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99"/>
                </a:solidFill>
                <a:latin typeface="Arial"/>
              </a:rPr>
              <a:t>Status del individuo o del gru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99"/>
                </a:solidFill>
                <a:latin typeface="Arial"/>
              </a:rPr>
              <a:t>Derecho a la adjudicación de recur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99"/>
                </a:solidFill>
                <a:latin typeface="Arial"/>
              </a:rPr>
              <a:t>Representación en posiciones podero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99"/>
                </a:solidFill>
                <a:latin typeface="Arial"/>
              </a:rPr>
              <a:t>Símbolos de po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Johnson y Scholes (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81000" y="0"/>
            <a:ext cx="83059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mportancia en el éxito del proyecto y sus relativos poder o riesg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52280" y="928800"/>
          <a:ext cx="8915400" cy="5748120"/>
        </p:xfrm>
        <a:graphic>
          <a:graphicData uri="http://schemas.openxmlformats.org/drawingml/2006/table">
            <a:tbl>
              <a:tblPr/>
              <a:tblGrid>
                <a:gridCol w="2667240"/>
                <a:gridCol w="2057400"/>
                <a:gridCol w="1752480"/>
                <a:gridCol w="243828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Grup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Ries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o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Importa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+A fav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A:Al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M: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B:Baj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En cont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9999"/>
                        </a:buClr>
                        <a:buSzPct val="65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9999"/>
                        </a:buClr>
                        <a:buSzPct val="65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-143280"/>
            <a:ext cx="78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mportancia/poder/riesgo de los involuc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219320" y="2143080"/>
          <a:ext cx="2895480" cy="343080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952880" y="2143080"/>
          <a:ext cx="2971800" cy="3424320"/>
        </p:xfrm>
        <a:graphic>
          <a:graphicData uri="http://schemas.openxmlformats.org/drawingml/2006/table">
            <a:tbl>
              <a:tblPr/>
              <a:tblGrid>
                <a:gridCol w="1522440"/>
                <a:gridCol w="1449360"/>
              </a:tblGrid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25"/>
          <p:cNvSpPr/>
          <p:nvPr/>
        </p:nvSpPr>
        <p:spPr>
          <a:xfrm>
            <a:off x="4223520" y="2124000"/>
            <a:ext cx="603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26"/>
          <p:cNvSpPr/>
          <p:nvPr/>
        </p:nvSpPr>
        <p:spPr>
          <a:xfrm>
            <a:off x="1794960" y="142884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n Cont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5788440" y="135720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Fav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221040" y="2500200"/>
            <a:ext cx="10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221040" y="4286160"/>
            <a:ext cx="10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30"/>
          <p:cNvSpPr/>
          <p:nvPr/>
        </p:nvSpPr>
        <p:spPr>
          <a:xfrm>
            <a:off x="8025480" y="2455920"/>
            <a:ext cx="10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31"/>
          <p:cNvSpPr/>
          <p:nvPr/>
        </p:nvSpPr>
        <p:spPr>
          <a:xfrm>
            <a:off x="8007840" y="4286160"/>
            <a:ext cx="10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32"/>
          <p:cNvSpPr/>
          <p:nvPr/>
        </p:nvSpPr>
        <p:spPr>
          <a:xfrm>
            <a:off x="1080360" y="5553000"/>
            <a:ext cx="136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j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iesg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33"/>
          <p:cNvSpPr/>
          <p:nvPr/>
        </p:nvSpPr>
        <p:spPr>
          <a:xfrm>
            <a:off x="6627240" y="5553000"/>
            <a:ext cx="136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j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iesg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34"/>
          <p:cNvSpPr/>
          <p:nvPr/>
        </p:nvSpPr>
        <p:spPr>
          <a:xfrm>
            <a:off x="2841120" y="5553000"/>
            <a:ext cx="136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iesg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35"/>
          <p:cNvSpPr/>
          <p:nvPr/>
        </p:nvSpPr>
        <p:spPr>
          <a:xfrm>
            <a:off x="5009400" y="5553000"/>
            <a:ext cx="136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iesg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¿Qué es un análisis de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actores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?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14200" y="1671480"/>
            <a:ext cx="871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a identificación de los actores claves, una evaluación de sus intereses, y las formas en las cuales esos intereses afectan el riesgo y la viabilidad de los programas y servicios de salu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1480" y="-357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Mapeo de los grupos de inter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287360" y="2117880"/>
          <a:ext cx="2895840" cy="343044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</a:tblGrid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5021280" y="2117880"/>
          <a:ext cx="2971800" cy="3423960"/>
        </p:xfrm>
        <a:graphic>
          <a:graphicData uri="http://schemas.openxmlformats.org/drawingml/2006/table">
            <a:tbl>
              <a:tblPr/>
              <a:tblGrid>
                <a:gridCol w="1522440"/>
                <a:gridCol w="1449360"/>
              </a:tblGrid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Text Box 29"/>
          <p:cNvSpPr/>
          <p:nvPr/>
        </p:nvSpPr>
        <p:spPr>
          <a:xfrm>
            <a:off x="4291920" y="2098800"/>
            <a:ext cx="603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30"/>
          <p:cNvSpPr/>
          <p:nvPr/>
        </p:nvSpPr>
        <p:spPr>
          <a:xfrm>
            <a:off x="1905840" y="14130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n cont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5862240" y="13730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Fav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32"/>
          <p:cNvSpPr/>
          <p:nvPr/>
        </p:nvSpPr>
        <p:spPr>
          <a:xfrm>
            <a:off x="244800" y="2538360"/>
            <a:ext cx="10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227520" y="4156200"/>
            <a:ext cx="10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35"/>
          <p:cNvSpPr/>
          <p:nvPr/>
        </p:nvSpPr>
        <p:spPr>
          <a:xfrm>
            <a:off x="8093520" y="2467080"/>
            <a:ext cx="10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36"/>
          <p:cNvSpPr/>
          <p:nvPr/>
        </p:nvSpPr>
        <p:spPr>
          <a:xfrm>
            <a:off x="8076240" y="4227480"/>
            <a:ext cx="10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1290600" y="5527800"/>
            <a:ext cx="119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ies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6648120" y="5527800"/>
            <a:ext cx="119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ies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39"/>
          <p:cNvSpPr/>
          <p:nvPr/>
        </p:nvSpPr>
        <p:spPr>
          <a:xfrm>
            <a:off x="2937600" y="5527800"/>
            <a:ext cx="119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ies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40"/>
          <p:cNvSpPr/>
          <p:nvPr/>
        </p:nvSpPr>
        <p:spPr>
          <a:xfrm>
            <a:off x="5076720" y="5527800"/>
            <a:ext cx="119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ies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Oval 41"/>
          <p:cNvSpPr/>
          <p:nvPr/>
        </p:nvSpPr>
        <p:spPr>
          <a:xfrm>
            <a:off x="103320" y="785880"/>
            <a:ext cx="1611360" cy="1285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mportanci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lati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Oval 44"/>
          <p:cNvSpPr/>
          <p:nvPr/>
        </p:nvSpPr>
        <p:spPr>
          <a:xfrm>
            <a:off x="2811600" y="1946160"/>
            <a:ext cx="76176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Oval 45"/>
          <p:cNvSpPr/>
          <p:nvPr/>
        </p:nvSpPr>
        <p:spPr>
          <a:xfrm>
            <a:off x="3192480" y="3089160"/>
            <a:ext cx="76212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Oval 46"/>
          <p:cNvSpPr/>
          <p:nvPr/>
        </p:nvSpPr>
        <p:spPr>
          <a:xfrm>
            <a:off x="5707080" y="2098800"/>
            <a:ext cx="762120" cy="761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Oval 47"/>
          <p:cNvSpPr/>
          <p:nvPr/>
        </p:nvSpPr>
        <p:spPr>
          <a:xfrm>
            <a:off x="6164280" y="3089160"/>
            <a:ext cx="76212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Oval 48"/>
          <p:cNvSpPr/>
          <p:nvPr/>
        </p:nvSpPr>
        <p:spPr>
          <a:xfrm>
            <a:off x="1363680" y="4232160"/>
            <a:ext cx="76212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Oval 49"/>
          <p:cNvSpPr/>
          <p:nvPr/>
        </p:nvSpPr>
        <p:spPr>
          <a:xfrm>
            <a:off x="1744560" y="2479680"/>
            <a:ext cx="76212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Oval 50"/>
          <p:cNvSpPr/>
          <p:nvPr/>
        </p:nvSpPr>
        <p:spPr>
          <a:xfrm>
            <a:off x="7078680" y="2631960"/>
            <a:ext cx="76212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Oval 51"/>
          <p:cNvSpPr/>
          <p:nvPr/>
        </p:nvSpPr>
        <p:spPr>
          <a:xfrm>
            <a:off x="5707080" y="4460760"/>
            <a:ext cx="76212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Oval 52"/>
          <p:cNvSpPr/>
          <p:nvPr/>
        </p:nvSpPr>
        <p:spPr>
          <a:xfrm>
            <a:off x="2506680" y="41562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Oval 53"/>
          <p:cNvSpPr/>
          <p:nvPr/>
        </p:nvSpPr>
        <p:spPr>
          <a:xfrm>
            <a:off x="2658960" y="308916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Oval 54"/>
          <p:cNvSpPr/>
          <p:nvPr/>
        </p:nvSpPr>
        <p:spPr>
          <a:xfrm>
            <a:off x="5097600" y="202248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Oval 55"/>
          <p:cNvSpPr/>
          <p:nvPr/>
        </p:nvSpPr>
        <p:spPr>
          <a:xfrm>
            <a:off x="2201760" y="20988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Oval 56"/>
          <p:cNvSpPr/>
          <p:nvPr/>
        </p:nvSpPr>
        <p:spPr>
          <a:xfrm>
            <a:off x="5173560" y="293688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Oval 57"/>
          <p:cNvSpPr/>
          <p:nvPr/>
        </p:nvSpPr>
        <p:spPr>
          <a:xfrm>
            <a:off x="6621480" y="2327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Oval 58"/>
          <p:cNvSpPr/>
          <p:nvPr/>
        </p:nvSpPr>
        <p:spPr>
          <a:xfrm>
            <a:off x="1820880" y="354636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Oval 59"/>
          <p:cNvSpPr/>
          <p:nvPr/>
        </p:nvSpPr>
        <p:spPr>
          <a:xfrm>
            <a:off x="6164280" y="407988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Oval 60"/>
          <p:cNvSpPr/>
          <p:nvPr/>
        </p:nvSpPr>
        <p:spPr>
          <a:xfrm>
            <a:off x="2354400" y="491796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Oval 61"/>
          <p:cNvSpPr/>
          <p:nvPr/>
        </p:nvSpPr>
        <p:spPr>
          <a:xfrm>
            <a:off x="3040200" y="400356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Oval 63"/>
          <p:cNvSpPr/>
          <p:nvPr/>
        </p:nvSpPr>
        <p:spPr>
          <a:xfrm>
            <a:off x="2963880" y="4537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Oval 64"/>
          <p:cNvSpPr/>
          <p:nvPr/>
        </p:nvSpPr>
        <p:spPr>
          <a:xfrm>
            <a:off x="2354400" y="3851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Oval 65"/>
          <p:cNvSpPr/>
          <p:nvPr/>
        </p:nvSpPr>
        <p:spPr>
          <a:xfrm>
            <a:off x="3497400" y="27846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Oval 66"/>
          <p:cNvSpPr/>
          <p:nvPr/>
        </p:nvSpPr>
        <p:spPr>
          <a:xfrm>
            <a:off x="1440000" y="23274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Oval 67"/>
          <p:cNvSpPr/>
          <p:nvPr/>
        </p:nvSpPr>
        <p:spPr>
          <a:xfrm>
            <a:off x="3344760" y="46134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Oval 68"/>
          <p:cNvSpPr/>
          <p:nvPr/>
        </p:nvSpPr>
        <p:spPr>
          <a:xfrm>
            <a:off x="3421080" y="4079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Oval 69"/>
          <p:cNvSpPr/>
          <p:nvPr/>
        </p:nvSpPr>
        <p:spPr>
          <a:xfrm>
            <a:off x="5402160" y="3622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Oval 70"/>
          <p:cNvSpPr/>
          <p:nvPr/>
        </p:nvSpPr>
        <p:spPr>
          <a:xfrm>
            <a:off x="5173560" y="43848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Oval 71"/>
          <p:cNvSpPr/>
          <p:nvPr/>
        </p:nvSpPr>
        <p:spPr>
          <a:xfrm>
            <a:off x="7230960" y="217476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Oval 72"/>
          <p:cNvSpPr/>
          <p:nvPr/>
        </p:nvSpPr>
        <p:spPr>
          <a:xfrm>
            <a:off x="5630760" y="4079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Oval 73"/>
          <p:cNvSpPr/>
          <p:nvPr/>
        </p:nvSpPr>
        <p:spPr>
          <a:xfrm>
            <a:off x="5249880" y="50706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Oval 74"/>
          <p:cNvSpPr/>
          <p:nvPr/>
        </p:nvSpPr>
        <p:spPr>
          <a:xfrm>
            <a:off x="7002360" y="400356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Oval 75"/>
          <p:cNvSpPr/>
          <p:nvPr/>
        </p:nvSpPr>
        <p:spPr>
          <a:xfrm>
            <a:off x="6773760" y="46134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Oval 76"/>
          <p:cNvSpPr/>
          <p:nvPr/>
        </p:nvSpPr>
        <p:spPr>
          <a:xfrm>
            <a:off x="7078680" y="4765680"/>
            <a:ext cx="76212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Oval 77"/>
          <p:cNvSpPr/>
          <p:nvPr/>
        </p:nvSpPr>
        <p:spPr>
          <a:xfrm>
            <a:off x="7230960" y="430848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Oval 78"/>
          <p:cNvSpPr/>
          <p:nvPr/>
        </p:nvSpPr>
        <p:spPr>
          <a:xfrm>
            <a:off x="7535880" y="377496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57320" y="-29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uadro de la imporancia/poder/riesgo</a:t>
            </a: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de los Involuc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219320" y="1933560"/>
          <a:ext cx="2895480" cy="343044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952880" y="1933560"/>
          <a:ext cx="2971800" cy="3424320"/>
        </p:xfrm>
        <a:graphic>
          <a:graphicData uri="http://schemas.openxmlformats.org/drawingml/2006/table">
            <a:tbl>
              <a:tblPr/>
              <a:tblGrid>
                <a:gridCol w="1522440"/>
                <a:gridCol w="1449360"/>
              </a:tblGrid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Text Box 25"/>
          <p:cNvSpPr/>
          <p:nvPr/>
        </p:nvSpPr>
        <p:spPr>
          <a:xfrm>
            <a:off x="4221000" y="1571760"/>
            <a:ext cx="608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 Box 26"/>
          <p:cNvSpPr/>
          <p:nvPr/>
        </p:nvSpPr>
        <p:spPr>
          <a:xfrm>
            <a:off x="1837800" y="100008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n Contr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27"/>
          <p:cNvSpPr/>
          <p:nvPr/>
        </p:nvSpPr>
        <p:spPr>
          <a:xfrm>
            <a:off x="5793480" y="10000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Fav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28"/>
          <p:cNvSpPr/>
          <p:nvPr/>
        </p:nvSpPr>
        <p:spPr>
          <a:xfrm>
            <a:off x="176760" y="1685880"/>
            <a:ext cx="10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29"/>
          <p:cNvSpPr/>
          <p:nvPr/>
        </p:nvSpPr>
        <p:spPr>
          <a:xfrm>
            <a:off x="159120" y="4505400"/>
            <a:ext cx="10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30"/>
          <p:cNvSpPr/>
          <p:nvPr/>
        </p:nvSpPr>
        <p:spPr>
          <a:xfrm>
            <a:off x="8025480" y="1685880"/>
            <a:ext cx="10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31"/>
          <p:cNvSpPr/>
          <p:nvPr/>
        </p:nvSpPr>
        <p:spPr>
          <a:xfrm>
            <a:off x="8007840" y="4505400"/>
            <a:ext cx="10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32"/>
          <p:cNvSpPr/>
          <p:nvPr/>
        </p:nvSpPr>
        <p:spPr>
          <a:xfrm>
            <a:off x="1245600" y="5343480"/>
            <a:ext cx="136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j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iesg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33"/>
          <p:cNvSpPr/>
          <p:nvPr/>
        </p:nvSpPr>
        <p:spPr>
          <a:xfrm>
            <a:off x="6627240" y="5343480"/>
            <a:ext cx="136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j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iesg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Text Box 34"/>
          <p:cNvSpPr/>
          <p:nvPr/>
        </p:nvSpPr>
        <p:spPr>
          <a:xfrm>
            <a:off x="2626920" y="5343480"/>
            <a:ext cx="136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iesg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5103360" y="5343480"/>
            <a:ext cx="136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iesg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Line 36"/>
          <p:cNvSpPr/>
          <p:nvPr/>
        </p:nvSpPr>
        <p:spPr>
          <a:xfrm>
            <a:off x="3276720" y="4048200"/>
            <a:ext cx="2438280" cy="0"/>
          </a:xfrm>
          <a:prstGeom prst="line">
            <a:avLst/>
          </a:prstGeom>
          <a:ln w="5724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Line 37"/>
          <p:cNvSpPr/>
          <p:nvPr/>
        </p:nvSpPr>
        <p:spPr>
          <a:xfrm>
            <a:off x="1981080" y="4657680"/>
            <a:ext cx="5181840" cy="0"/>
          </a:xfrm>
          <a:prstGeom prst="line">
            <a:avLst/>
          </a:prstGeom>
          <a:ln w="5724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Line 38"/>
          <p:cNvSpPr/>
          <p:nvPr/>
        </p:nvSpPr>
        <p:spPr>
          <a:xfrm>
            <a:off x="1981080" y="2143080"/>
            <a:ext cx="5181840" cy="0"/>
          </a:xfrm>
          <a:prstGeom prst="line">
            <a:avLst/>
          </a:prstGeom>
          <a:ln w="5724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Line 39"/>
          <p:cNvSpPr/>
          <p:nvPr/>
        </p:nvSpPr>
        <p:spPr>
          <a:xfrm>
            <a:off x="3276720" y="2752560"/>
            <a:ext cx="2438280" cy="0"/>
          </a:xfrm>
          <a:prstGeom prst="line">
            <a:avLst/>
          </a:prstGeom>
          <a:ln w="5724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84360" y="-14328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uadro de la imporancia/poder/riesgo</a:t>
            </a: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de los Involuc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219320" y="1816200"/>
          <a:ext cx="2895480" cy="343044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4952880" y="1816200"/>
          <a:ext cx="2971800" cy="3423960"/>
        </p:xfrm>
        <a:graphic>
          <a:graphicData uri="http://schemas.openxmlformats.org/drawingml/2006/table">
            <a:tbl>
              <a:tblPr/>
              <a:tblGrid>
                <a:gridCol w="1522440"/>
                <a:gridCol w="1449360"/>
              </a:tblGrid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Text Box 25"/>
          <p:cNvSpPr/>
          <p:nvPr/>
        </p:nvSpPr>
        <p:spPr>
          <a:xfrm>
            <a:off x="4223520" y="1797120"/>
            <a:ext cx="603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26"/>
          <p:cNvSpPr/>
          <p:nvPr/>
        </p:nvSpPr>
        <p:spPr>
          <a:xfrm>
            <a:off x="1837800" y="11113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n Cont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27"/>
          <p:cNvSpPr/>
          <p:nvPr/>
        </p:nvSpPr>
        <p:spPr>
          <a:xfrm>
            <a:off x="5793480" y="10717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Fav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28"/>
          <p:cNvSpPr/>
          <p:nvPr/>
        </p:nvSpPr>
        <p:spPr>
          <a:xfrm>
            <a:off x="176760" y="1568520"/>
            <a:ext cx="10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29"/>
          <p:cNvSpPr/>
          <p:nvPr/>
        </p:nvSpPr>
        <p:spPr>
          <a:xfrm>
            <a:off x="159120" y="4387680"/>
            <a:ext cx="10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Text Box 30"/>
          <p:cNvSpPr/>
          <p:nvPr/>
        </p:nvSpPr>
        <p:spPr>
          <a:xfrm>
            <a:off x="8025480" y="1568520"/>
            <a:ext cx="10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Text Box 31"/>
          <p:cNvSpPr/>
          <p:nvPr/>
        </p:nvSpPr>
        <p:spPr>
          <a:xfrm>
            <a:off x="8007840" y="4387680"/>
            <a:ext cx="10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32"/>
          <p:cNvSpPr/>
          <p:nvPr/>
        </p:nvSpPr>
        <p:spPr>
          <a:xfrm>
            <a:off x="1245600" y="5226120"/>
            <a:ext cx="136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j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iesg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33"/>
          <p:cNvSpPr/>
          <p:nvPr/>
        </p:nvSpPr>
        <p:spPr>
          <a:xfrm>
            <a:off x="6627240" y="5226120"/>
            <a:ext cx="136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j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iesg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Text Box 34"/>
          <p:cNvSpPr/>
          <p:nvPr/>
        </p:nvSpPr>
        <p:spPr>
          <a:xfrm>
            <a:off x="2626920" y="5226120"/>
            <a:ext cx="136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iesg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 Box 35"/>
          <p:cNvSpPr/>
          <p:nvPr/>
        </p:nvSpPr>
        <p:spPr>
          <a:xfrm>
            <a:off x="5103360" y="5226120"/>
            <a:ext cx="136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iesg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Line 36"/>
          <p:cNvSpPr/>
          <p:nvPr/>
        </p:nvSpPr>
        <p:spPr>
          <a:xfrm flipH="1">
            <a:off x="2057400" y="2178000"/>
            <a:ext cx="1447920" cy="2209680"/>
          </a:xfrm>
          <a:prstGeom prst="line">
            <a:avLst/>
          </a:prstGeom>
          <a:ln w="5724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37"/>
          <p:cNvSpPr/>
          <p:nvPr/>
        </p:nvSpPr>
        <p:spPr>
          <a:xfrm flipH="1">
            <a:off x="2133360" y="4464000"/>
            <a:ext cx="1523880" cy="0"/>
          </a:xfrm>
          <a:prstGeom prst="line">
            <a:avLst/>
          </a:prstGeom>
          <a:ln w="5724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Line 38"/>
          <p:cNvSpPr/>
          <p:nvPr/>
        </p:nvSpPr>
        <p:spPr>
          <a:xfrm>
            <a:off x="1828800" y="1873080"/>
            <a:ext cx="0" cy="2514600"/>
          </a:xfrm>
          <a:prstGeom prst="line">
            <a:avLst/>
          </a:prstGeom>
          <a:ln w="5724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Line 39"/>
          <p:cNvSpPr/>
          <p:nvPr/>
        </p:nvSpPr>
        <p:spPr>
          <a:xfrm flipH="1" flipV="1">
            <a:off x="5867280" y="2482920"/>
            <a:ext cx="1524240" cy="2286000"/>
          </a:xfrm>
          <a:prstGeom prst="line">
            <a:avLst/>
          </a:prstGeom>
          <a:ln w="5724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Line 40"/>
          <p:cNvSpPr/>
          <p:nvPr/>
        </p:nvSpPr>
        <p:spPr>
          <a:xfrm flipV="1">
            <a:off x="5638680" y="2635200"/>
            <a:ext cx="0" cy="2286000"/>
          </a:xfrm>
          <a:prstGeom prst="line">
            <a:avLst/>
          </a:prstGeom>
          <a:ln w="5724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41"/>
          <p:cNvSpPr/>
          <p:nvPr/>
        </p:nvSpPr>
        <p:spPr>
          <a:xfrm flipH="1">
            <a:off x="5943600" y="2254320"/>
            <a:ext cx="1447920" cy="0"/>
          </a:xfrm>
          <a:prstGeom prst="line">
            <a:avLst/>
          </a:prstGeom>
          <a:ln w="5724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84360" y="-14328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uadro de la imporancia/poder/riesgo</a:t>
            </a: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de los Involuc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000080" y="1811160"/>
          <a:ext cx="3262320" cy="3430800"/>
        </p:xfrm>
        <a:graphic>
          <a:graphicData uri="http://schemas.openxmlformats.org/drawingml/2006/table">
            <a:tbl>
              <a:tblPr/>
              <a:tblGrid>
                <a:gridCol w="1590840"/>
                <a:gridCol w="1671480"/>
              </a:tblGrid>
              <a:tr h="17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Obstaculi</a:t>
                      </a:r>
                      <a:r>
                        <a:rPr b="1" lang="en-US" sz="1800" spc="-1" strike="noStrike" u="sng">
                          <a:solidFill>
                            <a:srgbClr val="ffc000"/>
                          </a:solidFill>
                          <a:uFillTx/>
                          <a:latin typeface="Tahoma"/>
                        </a:rPr>
                        <a:t>za</a:t>
                      </a:r>
                      <a:r>
                        <a:rPr b="1" lang="en-US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itor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Enemig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ro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y 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r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Crít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orm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Advers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uad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795920" y="1811160"/>
          <a:ext cx="3438360" cy="3424320"/>
        </p:xfrm>
        <a:graphic>
          <a:graphicData uri="http://schemas.openxmlformats.org/drawingml/2006/table">
            <a:tbl>
              <a:tblPr/>
              <a:tblGrid>
                <a:gridCol w="1581120"/>
                <a:gridCol w="1857240"/>
              </a:tblGrid>
              <a:tr h="171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ahoma"/>
                        </a:rPr>
                        <a:t>Ali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ro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y 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r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ahoma"/>
                        </a:rPr>
                        <a:t>Simpatiz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viliz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eses y apoy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ahoma"/>
                        </a:rPr>
                        <a:t>Apoy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tener envueltos y Satisfech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ahoma"/>
                        </a:rPr>
                        <a:t>Amig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tener Inform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Text Box 25"/>
          <p:cNvSpPr/>
          <p:nvPr/>
        </p:nvSpPr>
        <p:spPr>
          <a:xfrm>
            <a:off x="4329000" y="1928880"/>
            <a:ext cx="457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Text Box 26"/>
          <p:cNvSpPr/>
          <p:nvPr/>
        </p:nvSpPr>
        <p:spPr>
          <a:xfrm>
            <a:off x="1750320" y="118260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n Cont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27"/>
          <p:cNvSpPr/>
          <p:nvPr/>
        </p:nvSpPr>
        <p:spPr>
          <a:xfrm>
            <a:off x="5840640" y="11430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Fav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28"/>
          <p:cNvSpPr/>
          <p:nvPr/>
        </p:nvSpPr>
        <p:spPr>
          <a:xfrm>
            <a:off x="6840" y="2170080"/>
            <a:ext cx="9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 Box 29"/>
          <p:cNvSpPr/>
          <p:nvPr/>
        </p:nvSpPr>
        <p:spPr>
          <a:xfrm>
            <a:off x="6840" y="3929040"/>
            <a:ext cx="9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a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30"/>
          <p:cNvSpPr/>
          <p:nvPr/>
        </p:nvSpPr>
        <p:spPr>
          <a:xfrm>
            <a:off x="8231760" y="2170080"/>
            <a:ext cx="9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Text Box 31"/>
          <p:cNvSpPr/>
          <p:nvPr/>
        </p:nvSpPr>
        <p:spPr>
          <a:xfrm>
            <a:off x="8241120" y="3929040"/>
            <a:ext cx="9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a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32"/>
          <p:cNvSpPr/>
          <p:nvPr/>
        </p:nvSpPr>
        <p:spPr>
          <a:xfrm>
            <a:off x="1164960" y="5221440"/>
            <a:ext cx="12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a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iesg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33"/>
          <p:cNvSpPr/>
          <p:nvPr/>
        </p:nvSpPr>
        <p:spPr>
          <a:xfrm>
            <a:off x="6510240" y="5221440"/>
            <a:ext cx="12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aj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iesg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34"/>
          <p:cNvSpPr/>
          <p:nvPr/>
        </p:nvSpPr>
        <p:spPr>
          <a:xfrm>
            <a:off x="2854080" y="5221440"/>
            <a:ext cx="12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iesg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35"/>
          <p:cNvSpPr/>
          <p:nvPr/>
        </p:nvSpPr>
        <p:spPr>
          <a:xfrm>
            <a:off x="4653000" y="5221440"/>
            <a:ext cx="12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iesg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41440" y="-14328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Los beneficios de una aproxi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anar apoyo de los grupos de interés poderosos puede ayudar a ganar más recursos – esto hace más probable el éxit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municárse con los grupos de interés a tiempo y frecuentemente,  ayuda a garantizar que  los mismos entiendan completamente lo que se esta haciendo y significa que  ellos pueden apoyar activamente cuando sea necesa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ticipar la reacción de la gente, y construir dentro de  los planes,  las acciones que favorezcan  el apoyo de la g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395280" y="2332080"/>
            <a:ext cx="8229600" cy="21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cc3300"/>
                </a:solidFill>
                <a:latin typeface="Arial"/>
              </a:rPr>
              <a:t>Diagrama de Campo de Fuerza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Line 5"/>
          <p:cNvSpPr/>
          <p:nvPr/>
        </p:nvSpPr>
        <p:spPr>
          <a:xfrm>
            <a:off x="4356000" y="2465280"/>
            <a:ext cx="0" cy="439272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1258920" y="1330200"/>
            <a:ext cx="1297080" cy="6426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bbe0e3"/>
                </a:solidFill>
                <a:latin typeface="Tahoma"/>
              </a:rPr>
              <a:t>Estado actu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6300720" y="1341360"/>
            <a:ext cx="1297080" cy="6426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be0e3"/>
                </a:solidFill>
                <a:latin typeface="Tahoma"/>
              </a:rPr>
              <a:t>Estado dese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AutoShape 8"/>
          <p:cNvSpPr/>
          <p:nvPr/>
        </p:nvSpPr>
        <p:spPr>
          <a:xfrm>
            <a:off x="2987640" y="1125360"/>
            <a:ext cx="3024360" cy="990720"/>
          </a:xfrm>
          <a:prstGeom prst="rightArrow">
            <a:avLst>
              <a:gd name="adj1" fmla="val 50000"/>
              <a:gd name="adj2" fmla="val 763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6600"/>
                </a:solidFill>
                <a:latin typeface="Tahoma"/>
              </a:rPr>
              <a:t>Cambio dese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AutoShape 10"/>
          <p:cNvSpPr/>
          <p:nvPr/>
        </p:nvSpPr>
        <p:spPr>
          <a:xfrm>
            <a:off x="1042920" y="2276640"/>
            <a:ext cx="3024360" cy="990360"/>
          </a:xfrm>
          <a:prstGeom prst="rightArrow">
            <a:avLst>
              <a:gd name="adj1" fmla="val 50000"/>
              <a:gd name="adj2" fmla="val 76345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99cc00"/>
                </a:solidFill>
                <a:latin typeface="Tahoma"/>
              </a:rPr>
              <a:t>Fuerza impuls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AutoShape 11"/>
          <p:cNvSpPr/>
          <p:nvPr/>
        </p:nvSpPr>
        <p:spPr>
          <a:xfrm>
            <a:off x="4572000" y="2327400"/>
            <a:ext cx="3240000" cy="917280"/>
          </a:xfrm>
          <a:prstGeom prst="leftArrow">
            <a:avLst>
              <a:gd name="adj1" fmla="val 50000"/>
              <a:gd name="adj2" fmla="val 8830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Fuerza restrict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14"/>
          <p:cNvSpPr/>
          <p:nvPr/>
        </p:nvSpPr>
        <p:spPr>
          <a:xfrm>
            <a:off x="1403280" y="3789360"/>
            <a:ext cx="28814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Line 15"/>
          <p:cNvSpPr/>
          <p:nvPr/>
        </p:nvSpPr>
        <p:spPr>
          <a:xfrm>
            <a:off x="2411280" y="4149720"/>
            <a:ext cx="18734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Line 16"/>
          <p:cNvSpPr/>
          <p:nvPr/>
        </p:nvSpPr>
        <p:spPr>
          <a:xfrm>
            <a:off x="2195640" y="4508640"/>
            <a:ext cx="20890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Line 17"/>
          <p:cNvSpPr/>
          <p:nvPr/>
        </p:nvSpPr>
        <p:spPr>
          <a:xfrm>
            <a:off x="1763640" y="4941720"/>
            <a:ext cx="25210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19"/>
          <p:cNvSpPr/>
          <p:nvPr/>
        </p:nvSpPr>
        <p:spPr>
          <a:xfrm flipH="1">
            <a:off x="4500720" y="3789360"/>
            <a:ext cx="37432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Line 20"/>
          <p:cNvSpPr/>
          <p:nvPr/>
        </p:nvSpPr>
        <p:spPr>
          <a:xfrm flipH="1">
            <a:off x="4500360" y="4076640"/>
            <a:ext cx="2376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21"/>
          <p:cNvSpPr/>
          <p:nvPr/>
        </p:nvSpPr>
        <p:spPr>
          <a:xfrm flipH="1">
            <a:off x="4500360" y="4292640"/>
            <a:ext cx="7189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Line 22"/>
          <p:cNvSpPr/>
          <p:nvPr/>
        </p:nvSpPr>
        <p:spPr>
          <a:xfrm flipH="1">
            <a:off x="4500360" y="4653000"/>
            <a:ext cx="17269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Line 23"/>
          <p:cNvSpPr/>
          <p:nvPr/>
        </p:nvSpPr>
        <p:spPr>
          <a:xfrm>
            <a:off x="684360" y="3429000"/>
            <a:ext cx="3528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Line 24"/>
          <p:cNvSpPr/>
          <p:nvPr/>
        </p:nvSpPr>
        <p:spPr>
          <a:xfrm>
            <a:off x="755640" y="5445000"/>
            <a:ext cx="35290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25"/>
          <p:cNvSpPr/>
          <p:nvPr/>
        </p:nvSpPr>
        <p:spPr>
          <a:xfrm>
            <a:off x="914400" y="-27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"/>
              </a:rPr>
              <a:t>Diagrama de Campo de Fuerzas</a:t>
            </a:r>
            <a:br>
              <a:rPr sz="2400"/>
            </a:br>
            <a:r>
              <a:rPr b="1" lang="es-MX" sz="2400" spc="-1" strike="noStrike">
                <a:solidFill>
                  <a:srgbClr val="cc3300"/>
                </a:solidFill>
                <a:latin typeface="Arial"/>
              </a:rPr>
              <a:t>(Kurt Lewin)</a:t>
            </a:r>
            <a:r>
              <a:rPr b="0" lang="es-MX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26"/>
          <p:cNvSpPr/>
          <p:nvPr/>
        </p:nvSpPr>
        <p:spPr>
          <a:xfrm>
            <a:off x="7495560" y="3716280"/>
            <a:ext cx="105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Tahoma"/>
              </a:rPr>
              <a:t>Sindica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6809400" y="3884760"/>
            <a:ext cx="5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Tahoma"/>
              </a:rPr>
              <a:t>OC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 Box 28"/>
          <p:cNvSpPr/>
          <p:nvPr/>
        </p:nvSpPr>
        <p:spPr>
          <a:xfrm>
            <a:off x="6162840" y="4508640"/>
            <a:ext cx="19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Tahoma"/>
              </a:rPr>
              <a:t>Cámara diputad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Text Box 29"/>
          <p:cNvSpPr/>
          <p:nvPr/>
        </p:nvSpPr>
        <p:spPr>
          <a:xfrm>
            <a:off x="421920" y="518004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Tahoma"/>
              </a:rPr>
              <a:t>Comun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Text Box 30"/>
          <p:cNvSpPr/>
          <p:nvPr/>
        </p:nvSpPr>
        <p:spPr>
          <a:xfrm>
            <a:off x="354960" y="467676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Tahoma"/>
              </a:rPr>
              <a:t>Trabajador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31"/>
          <p:cNvSpPr/>
          <p:nvPr/>
        </p:nvSpPr>
        <p:spPr>
          <a:xfrm>
            <a:off x="324000" y="3462480"/>
            <a:ext cx="201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Tahoma"/>
              </a:rPr>
              <a:t>Autoridade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Tahoma"/>
              </a:rPr>
              <a:t>estata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Text Box 32"/>
          <p:cNvSpPr/>
          <p:nvPr/>
        </p:nvSpPr>
        <p:spPr>
          <a:xfrm>
            <a:off x="5172840" y="4149720"/>
            <a:ext cx="138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Tahoma"/>
              </a:rPr>
              <a:t>Proveedor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Text Box 33"/>
          <p:cNvSpPr/>
          <p:nvPr/>
        </p:nvSpPr>
        <p:spPr>
          <a:xfrm>
            <a:off x="15840" y="4245120"/>
            <a:ext cx="25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Tahoma"/>
              </a:rPr>
              <a:t>Autoridades municipa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Text Box 34"/>
          <p:cNvSpPr/>
          <p:nvPr/>
        </p:nvSpPr>
        <p:spPr>
          <a:xfrm>
            <a:off x="5308920" y="494172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Tahoma"/>
              </a:rPr>
              <a:t>Competidor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35"/>
          <p:cNvSpPr/>
          <p:nvPr/>
        </p:nvSpPr>
        <p:spPr>
          <a:xfrm flipH="1">
            <a:off x="4572000" y="5084640"/>
            <a:ext cx="7192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Text Box 36"/>
          <p:cNvSpPr/>
          <p:nvPr/>
        </p:nvSpPr>
        <p:spPr>
          <a:xfrm>
            <a:off x="1827720" y="3933720"/>
            <a:ext cx="5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Tahoma"/>
              </a:rPr>
              <a:t>OC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37"/>
          <p:cNvSpPr/>
          <p:nvPr/>
        </p:nvSpPr>
        <p:spPr>
          <a:xfrm>
            <a:off x="324000" y="314172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Tahoma"/>
              </a:rPr>
              <a:t>Autoridades federa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4"/>
          <p:cNvSpPr txBox="1"/>
          <p:nvPr/>
        </p:nvSpPr>
        <p:spPr>
          <a:xfrm rot="20286000">
            <a:off x="1472760" y="2108160"/>
            <a:ext cx="5570640" cy="18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71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uchas gracia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71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2720" y="-14328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Por qué, Qué, Cuándo, Quién   y Cuánto?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5054400"/>
            <a:ext cx="7845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Quién debe hacer el análisis?</a:t>
            </a:r>
            <a:br>
              <a:rPr sz="32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974880" y="1357200"/>
            <a:ext cx="7788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Por qué hacer un análisis de Grupos de interé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714240" y="2782800"/>
            <a:ext cx="78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Qué es un análisis de grupos de interés?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57200" y="4140360"/>
            <a:ext cx="784548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Cuándo debe ser hech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8568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¿Por qué hacer un análisis de  grupos de interé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yuda a los líderes y gerentes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valuar el ambiente del entorno de los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render las características, interrelaciones,  e interfaces entre defensores u oponentes de programas yuacciones de salu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lanear estratégicamente los servicios de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ar viabilidad y minimizar ries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btener  apoyo </a:t>
            </a:r>
            <a:r>
              <a:rPr b="0" lang="en-US" sz="7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920" y="-1861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¿Por qué hacer un análisis de actores involucra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680" y="8571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dibuja los intereses de los grupos en relación a los problemas que los servicios  buscan resol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dentifica los conflictos de intereses entre grupos, los cuales influirán la evaluación del riesgo de programas  antes de que los recursos sean asignados y util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yuda a identificar las relaciones entre los grupos sobre las cuales pueden ser construidas, y permitir alianzas estrategicas de financiadores, OCS y prestadores de servic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yuda a evaluar los tipos apropiados de participación por los grupos, en los servicios de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920" y="-14328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¿Cuándo debe ser hech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42960" y="10713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 inicio de un programa, inclusive si se trata de una rápida lista de los involucrados y sus inter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a mayoría de la gente ya lo hace, aunque solo informalm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cha lista puede ser usada para desdibujar las principales suposiciones o premisas las cuales se requieren para que un servicio o programa sea viable, y algunos de los riesgos clav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28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Quién debe hacer el anális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l análisis de involucrados debe ser empleado en una forma participativa, y ciertamente, una aproximación en equipo es más probable que sea efectiva que un individuo haciendo el análisis sol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n embargo, el análisis de involucrados generalmente implica información sensible y no diplomática. Muchos intereses están cubiertos, y las agendas parcialmente escondidas. En muchas situaciones habrán pocos beneficios intentando de descubrir dichas agendas en públ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-21456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ómo hacer un Aná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4240" y="71424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80680" indent="-580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acer una lista de todos los actores involucr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0680" indent="-580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acer una evaluación de la importancia de cada involucrado en el éxito del programa o servicio, así como su poder o riesgo y hacer un mapeo de e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0680" indent="-580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tegorizar a los involucrados e identificar sus intereses, riesgos y suposiciones las cuales afectarán el diseño y el éxito de los servici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0680" indent="-580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trola a tus involucrados, elabora una estrategia para alianzas estrateg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74560" y="-171720"/>
            <a:ext cx="734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3300"/>
                </a:solidFill>
                <a:latin typeface="Arial"/>
              </a:rPr>
              <a:t>Dirección de la organ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333399"/>
                </a:solidFill>
                <a:latin typeface="Arial"/>
              </a:rPr>
              <a:t>Modo en que las empresas son dirigidas, lideradas y controladas, en función de los distintos grados de consideración de los intereses de los grupos que influyen o son influenciados por la organiz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"/>
              </a:rPr>
              <a:t>(Garicano, 199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19:52:58Z</dcterms:created>
  <dc:creator>mlgontes</dc:creator>
  <dc:description/>
  <dc:language>en-US</dc:language>
  <cp:lastModifiedBy>francisco.molina</cp:lastModifiedBy>
  <dcterms:modified xsi:type="dcterms:W3CDTF">2013-01-19T13:59:15Z</dcterms:modified>
  <cp:revision>46</cp:revision>
  <dc:subject/>
  <dc:title>¿QUÉ HACEN LOS DIRECTIVOS Y QUÉ HABILIDADES NECESITAN PARA UN TRABAJO EFECTIVO?</dc:title>
</cp:coreProperties>
</file>